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712-C6B7-4A0C-B6E8-782AEB26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252-942D-430E-9710-87F1B00A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C27-9CE1-48BF-BB11-9191AED8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1A6-3C1E-41F5-A7A4-EC6B0FF7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BA9-F8D6-4B86-8AF7-7796FA36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44B-1132-4BF0-8242-52B44C22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6B6-8395-4ADF-AE8F-4C3D10F8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470-6FA3-4864-86A4-13ECF492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6BC-A2A7-4833-9D70-48B9DB33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9BF-8446-49C9-A873-D0652059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6BE-36FF-4188-9DD2-4471FE5B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C05-8831-4CEC-BC56-4A96EC1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B6D-A1A4-477C-9107-6DA66D7EC34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736640" y="2792520"/>
            <a:ext cx="5664240" cy="1779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net is increasingly challenging us to revisit our roles as educators in cense making, coaching, and credenti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Media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 for online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Pressures and classroom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2262240" y="208080"/>
            <a:ext cx="3906720" cy="1773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teach the use of this med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we prepare students to separate the good from the b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teachers being prepared for the ever growing libra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596880" y="208080"/>
            <a:ext cx="7765920" cy="1773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e use the same style of evaluations for these texts? (running reco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y written in the same format as other tex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educators need to prepare their studnets before reading? (pre, during, post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6480" y="208080"/>
            <a:ext cx="8905680" cy="1773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funding means digital copies are ea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oducible pages become digital cop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emand of students, digital based copies means less money spent in each 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money spent on texts means more money spent on technology (idea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901800" y="208080"/>
            <a:ext cx="7132680" cy="1773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pressure means teachers need to rely on technology for their class to r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need access to digitial medi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is mean educators live and teach by the wireless conn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6767640" cy="1773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changes so rapi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we afford to update our classrooms every time the software or hardware needs to be upd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verhead projector is still being used because schools can’t afford LCD projectors, Whiteboards are being used because smart boards cant be afforded, the trend will contin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755640" y="285840"/>
            <a:ext cx="7645320" cy="177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rizon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ttp://net.educause.edu/ir/library/pdf/HR2011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4:51:33Z</dcterms:created>
  <dc:creator>user</dc:creator>
  <dc:description/>
  <dc:language>en-US</dc:language>
  <cp:lastModifiedBy>Province of NS</cp:lastModifiedBy>
  <dcterms:modified xsi:type="dcterms:W3CDTF">2012-06-30T17:24:30Z</dcterms:modified>
  <cp:revision>6</cp:revision>
  <dc:subject/>
  <dc:title>Ch2 Question 1</dc:title>
</cp:coreProperties>
</file>